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34E-A9FE-423A-8BC7-E17100F8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083-258A-4FFA-808D-482247E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547-CCBF-4998-AC23-E2A70A15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887-E99A-494B-B2F6-DABE5C03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70B-DF47-469C-9221-3BC5DFDB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ED1-D71B-45C7-B2C9-2691960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75E-4F5B-49DF-AE34-28B9F83A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FCB-9148-4C47-9FC5-CDCE4DD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D8B-DE26-41CB-8A9A-9AAF8DA3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FE3-D0FE-4973-B039-AFAFBB1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FFC-2BE0-4630-BA3D-F20923A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172-A628-44BB-AFB6-CC06B05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4C1C-E4F8-44E4-8EFD-5716408FB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Bradley Hand IT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Camryn Hensc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35812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3200" y="838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t1.gstatic.com/images?q=tbn:ANd9GcT4SapwwTrDWajggccdRfANs8iViX1aVKhy7cIiOoYEIJJ8YZIy5eIMjRHW"/>
          <p:cNvPicPr/>
          <p:nvPr/>
        </p:nvPicPr>
        <p:blipFill>
          <a:blip r:embed="rId1"/>
          <a:stretch/>
        </p:blipFill>
        <p:spPr>
          <a:xfrm>
            <a:off x="1600200" y="1676520"/>
            <a:ext cx="52704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743200" y="457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676520" y="14479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study of wisdom and the right way to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0.gstatic.com/images?q=tbn:ANd9GcQbqRmf1s5lrYdciAqjaJufvkIVTL--Ca8bO4--dc-86rkHrf3CdT-egOau"/>
          <p:cNvPicPr/>
          <p:nvPr/>
        </p:nvPicPr>
        <p:blipFill>
          <a:blip r:embed="rId1"/>
          <a:stretch/>
        </p:blipFill>
        <p:spPr>
          <a:xfrm>
            <a:off x="1219320" y="2322360"/>
            <a:ext cx="60195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971800" y="380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enins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523880" y="13716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 area of land nearly surrounded b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63360" y="-754200"/>
            <a:ext cx="210528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http://t0.gstatic.com/images?q=tbn:ANd9GcQtptkkT47QpgTRBWkRgStayZqtlP0W7O6qkOVLZtxFL_MKsZG_"/>
          <p:cNvPicPr/>
          <p:nvPr/>
        </p:nvPicPr>
        <p:blipFill>
          <a:blip r:embed="rId1"/>
          <a:stretch/>
        </p:blipFill>
        <p:spPr>
          <a:xfrm>
            <a:off x="1752480" y="2209680"/>
            <a:ext cx="52578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209680" y="3808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eloponnesian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057400" y="1447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T-ChFTQh-Z65EqRWisKvRHN92NGzPOWnrzaO4n5vlIvVTzbjop"/>
          <p:cNvPicPr/>
          <p:nvPr/>
        </p:nvPicPr>
        <p:blipFill>
          <a:blip r:embed="rId1"/>
          <a:stretch/>
        </p:blipFill>
        <p:spPr>
          <a:xfrm>
            <a:off x="1371600" y="259092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124080" y="380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Olig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9051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kind of government that is run by a small group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2.gstatic.com/images?q=tbn:ANd9GcQYrifb5deXbCLCR7m2UO52jEC9URDItqFqLWZLC18yLyhQIsS6R-vd5yxzhQ"/>
          <p:cNvPicPr/>
          <p:nvPr/>
        </p:nvPicPr>
        <p:blipFill>
          <a:blip r:embed="rId1"/>
          <a:stretch/>
        </p:blipFill>
        <p:spPr>
          <a:xfrm>
            <a:off x="1828800" y="2935440"/>
            <a:ext cx="5867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200400" y="457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828800" y="12952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sheltered place along a coast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0.gstatic.com/images?q=tbn:ANd9GcTDwoDXODnBPZSCIWy3ADu_-YrZSu7FuzJyzka6hB_FQeR1r7flZQ"/>
          <p:cNvPicPr/>
          <p:nvPr/>
        </p:nvPicPr>
        <p:blipFill>
          <a:blip r:embed="rId1"/>
          <a:stretch/>
        </p:blipFill>
        <p:spPr>
          <a:xfrm>
            <a:off x="1219320" y="2057400"/>
            <a:ext cx="7162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Tb-Y-B4JDpzvQ_p8NeDn1SpxAbsTSx8UOIYBmiG41RQ882VlJ3"/>
          <p:cNvPicPr/>
          <p:nvPr/>
        </p:nvPicPr>
        <p:blipFill>
          <a:blip r:embed="rId1"/>
          <a:stretch/>
        </p:blipFill>
        <p:spPr>
          <a:xfrm>
            <a:off x="83808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Rr_q7qKsuPK_8aOXrXMwQ0P6THg5bpZVB3g4ymYepJaa_qEu8RTg"/>
          <p:cNvPicPr/>
          <p:nvPr/>
        </p:nvPicPr>
        <p:blipFill>
          <a:blip r:embed="rId1"/>
          <a:stretch/>
        </p:blipFill>
        <p:spPr>
          <a:xfrm>
            <a:off x="1219320" y="1625760"/>
            <a:ext cx="716256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5480" y="380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0968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lawmaking place where people voted on issues that helped thei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2.gstatic.com/images?q=tbn:ANd9GcSroMekSJQT9mG1Rhx0FCm_0BK7eXVPTRTttrpI94saoDQLleDCzA"/>
          <p:cNvPicPr/>
          <p:nvPr/>
        </p:nvPicPr>
        <p:blipFill>
          <a:blip r:embed="rId1"/>
          <a:stretch/>
        </p:blipFill>
        <p:spPr>
          <a:xfrm>
            <a:off x="1447920" y="2666880"/>
            <a:ext cx="571500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352680" y="457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60020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person who has certain rights and responsibilities to his or her coun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2.gstatic.com/images?q=tbn:ANd9GcQzmzSttfWlzSrQIjPHZtZMYUL8VlET40mNAlbj2JJIlRQ0fp8T"/>
          <p:cNvPicPr/>
          <p:nvPr/>
        </p:nvPicPr>
        <p:blipFill>
          <a:blip r:embed="rId1"/>
          <a:stretch/>
        </p:blipFill>
        <p:spPr>
          <a:xfrm>
            <a:off x="1219320" y="2666880"/>
            <a:ext cx="6297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048120" y="3808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60020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group, of people who lived apart from Greece but kept economic ties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3.gstatic.com/images?q=tbn:ANd9GcQsYleIGENwjOXlkrzSloUaBqBlZVm4kn8AGx9RtZs_SaShd_0dVNsM_RR2"/>
          <p:cNvPicPr/>
          <p:nvPr/>
        </p:nvPicPr>
        <p:blipFill>
          <a:blip r:embed="rId1"/>
          <a:stretch/>
        </p:blipFill>
        <p:spPr>
          <a:xfrm>
            <a:off x="1523880" y="27432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59092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00200" y="18288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 form of government where people vote to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R0GKYeukOy-Gg_JuFQ-GlRr8BeQbDBT5HKlsnGOdVdgdAi3TFKlg"/>
          <p:cNvPicPr/>
          <p:nvPr/>
        </p:nvPicPr>
        <p:blipFill>
          <a:blip r:embed="rId1"/>
          <a:stretch/>
        </p:blipFill>
        <p:spPr>
          <a:xfrm>
            <a:off x="1295280" y="2743200"/>
            <a:ext cx="57913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0532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981080" y="1143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y hear evidence and make decisions in a court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2.gstatic.com/images?q=tbn:ANd9GcT3DOKmD9W7FXk9iBsSAyxbVEY17hFEDLt-_X7ltmhYjBaEWcu1HKsnqfaD"/>
          <p:cNvPicPr/>
          <p:nvPr/>
        </p:nvPicPr>
        <p:blipFill>
          <a:blip r:embed="rId1"/>
          <a:stretch/>
        </p:blipFill>
        <p:spPr>
          <a:xfrm>
            <a:off x="990720" y="2057400"/>
            <a:ext cx="6557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0481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on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514600" y="1295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overnment headed by one r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1.gstatic.com/images?q=tbn:ANd9GcTAABwYwVZDQgcaVDtI1l_bPdN1i8PULHLj0Sf0g9Ghi0ZWgAJ04omGc901"/>
          <p:cNvPicPr/>
          <p:nvPr/>
        </p:nvPicPr>
        <p:blipFill>
          <a:blip r:embed="rId1"/>
          <a:stretch/>
        </p:blipFill>
        <p:spPr>
          <a:xfrm>
            <a:off x="609480" y="2209680"/>
            <a:ext cx="7174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31:31Z</dcterms:modified>
  <cp:revision>96</cp:revision>
  <dc:subject/>
  <dc:title>Ancient Greece</dc:title>
</cp:coreProperties>
</file>